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059-881E-4F5E-BDF2-C0F91D23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F8B-B0CB-4C57-8376-A68D4467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205-1264-48E7-B816-6D0DC91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C51-67BB-4DD9-A837-5D25D85E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537-1B78-4122-B38C-522E418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E5A-F555-4E8D-8B21-61296E57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F02-69A3-48AF-8099-8A603BEA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FA4-2BE3-401B-8AB3-FDA808F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2C8-95D2-4598-805E-E51362F7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55E-7B22-435A-98DE-AD298E0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A59-CD70-4882-8C92-67791A1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E05-110E-485B-BCDB-FEA0711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6768-1AAF-4E3D-B42C-0C71B89B4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ussisch-fuer-kinder.de/russkij_detjam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y-shop.ru/_files/product/3/6/56573.jp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mal.org/ook/doc/ook-korn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284640"/>
            <a:ext cx="75214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и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крепление знаний и умений по правописанию корней с чередованием КОС – К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Формирование умения различать слова с чередованием в корне и проверяемой глас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вторение правописания корней с чередованием ЛАГ – ЛО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звитие творческих способностей, внимания, памя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00000" y="692280"/>
            <a:ext cx="7488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корней с чередова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 – ка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Picture 8" descr="Russisch als zweite Muttersprach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43000"/>
            <a:ext cx="1295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Разработать словарный диктант на тему «Чередующие гласные О-А в корнях –кос-кас-, -гор-гар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Угар, коснуться, догорать,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перегореть, прикосновение,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пригореть,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касательная, загар, загореть, сгореть, соприкасаться, подгореть, неукоснительно, предполагать, положить, вырастить, погорелец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001880" y="-14040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писание корней -гар- и -гор-, -зар- и -зор-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клан- и -клон-, -твар- и -твор-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1197000"/>
          <a:ext cx="7417080" cy="5343480"/>
        </p:xfrm>
        <a:graphic>
          <a:graphicData uri="http://schemas.openxmlformats.org/drawingml/2006/table">
            <a:tbl>
              <a:tblPr/>
              <a:tblGrid>
                <a:gridCol w="2373480"/>
                <a:gridCol w="1965240"/>
                <a:gridCol w="1173240"/>
                <a:gridCol w="1905120"/>
              </a:tblGrid>
              <a:tr h="842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Без уда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га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загар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ога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го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загорел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горе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зар- - -зо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зарево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зор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за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зарница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оза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клан- - -кло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кланятьс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по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кло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наклонять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твар- - -тво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тварь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-твор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Verdana"/>
                        </a:rPr>
                        <a:t>т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1. Буквы   А - О   в корнях&#10;&#10;    -ЛАГ -/-ЛОЖ, -КАС-/-КОС-"/>
          <p:cNvPicPr/>
          <p:nvPr/>
        </p:nvPicPr>
        <p:blipFill>
          <a:blip r:embed="rId2"/>
          <a:stretch/>
        </p:blipFill>
        <p:spPr>
          <a:xfrm>
            <a:off x="5435640" y="189000"/>
            <a:ext cx="3575160" cy="1522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68360" y="188280"/>
            <a:ext cx="47512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Буквы А - О в корнях</a:t>
            </a:r>
            <a:br>
              <a:rPr sz="1800"/>
            </a:b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-ЛАГ -/-ЛОЖ, -КАС-/-КОС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4000" y="995760"/>
            <a:ext cx="4608360" cy="1618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корнях -лаг-/-лож-, -кас-/-к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ишется буква А 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корня стоит суффикс -А-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уква О , если этого суффикс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900000" y="2921040"/>
            <a:ext cx="359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нуться, при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нов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ься, при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ельная ли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опри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ься, к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112920" y="2941560"/>
            <a:ext cx="668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ед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ть, пред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о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ние,из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едпо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ние, предпо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оз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ть, при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ед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ь, из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ри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ельное, распо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с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емые, пол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ыпишите слова с чередованием в 2 столбика. Вы узнали авторов этих предложений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8928000" cy="597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сядьте, пол…жите руки перед собой. Мы займёмся арифметикой”, – сказала девочка с голубыми воло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…жим, у вас в кармане два яблока, а некто взял у вас одно яблоко”. (А.Н.Толстой “Приключения Буратино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ло у вас там или гуталин, меня это не к…сается, а посылку я вам не отдам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ты правильно предл…гаешь, Матроскин. Без коровы в хозяйстве никак не обойтись”. (Э.Успенский “Дядя Фёдор, пёс и кот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только яичные скорлупки соприк…снулись с волшебной шляпой, так сразу же выросли в размерах и сделались мягкими и пухл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ь маленьких тучек выпорхнули из шляпы и, не к…саясь земли, повисли в воздухе.(Т.Янссон “Сказки про муми – троллей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дверью домика, где жила Сова распол…гались два объявления и колокольчик со шнур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нце едва к…снулось верхушек сосен, а медвежонок уже выбежал из дома и помчался прямиком к ловушке на Слонопотама. (А. Милн “Винни-пух и все-все-все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тор предлагал дать обезьянке лекарство, и её пришлось выложить из-за щёк свои сокровища: гаечки, пуговицы, ключики, и другие предметы. (Э. Успенский “Крокодил Гена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1 из 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76280"/>
            <a:ext cx="80643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200" y="834120"/>
            <a:ext cx="50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аг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, уг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, наг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. </a:t>
            </a:r>
            <a:br>
              <a:rPr sz="2400"/>
            </a:b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а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ать, за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а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елый, с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еть, за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еться, наг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ать. </a:t>
            </a:r>
            <a:br>
              <a:rPr sz="2400"/>
            </a:b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Исключения: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пр`иг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ь, `изг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1840" y="5082480"/>
            <a:ext cx="45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ево, з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ька, з`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и. </a:t>
            </a:r>
            <a:br>
              <a:rPr sz="2400"/>
            </a:b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н`ица, з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я, оз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ён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з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ить, оз</a:t>
            </a: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`ять. </a:t>
            </a:r>
            <a:br>
              <a:rPr sz="2400"/>
            </a:b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Исключ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з</a:t>
            </a:r>
            <a:r>
              <a:rPr b="1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а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рев`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124000" y="18828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Буквы А - О в корнях -ЗАР-/-ЗОР-, -ГАР-/-ГОР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-ТВАР-/-ТВОР-, -КЛАН-/-КЛОН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3. Буквы  А - О  в корнях -ЗАР-/-ЗОР-, -ГАР-/-ГОР-, -ТВАР-/-ТВОР-,&#10;&#10;              -КЛАН-/-КЛОН-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852640"/>
            <a:ext cx="3097080" cy="2336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5292720" y="1450800"/>
            <a:ext cx="3179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 корне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-зар-/-зор-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безударный 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бозначается буквой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 корнях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гар-/-гор-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твар-/-твор-, -клан-/-клон-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безударный гла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бозначается буквой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ключения: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зорев`ать, 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утварь, пр`иг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Обратите внимание на ударение в выделенных словах и гласную в ко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огда на кухне два повара, обед бывает пригорелый. Ассирий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огда на кухне три повара, обед получается с пригар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От чего зависит правописание О-А в корнях гор-га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Сделайте выв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alcik"/>
          <p:cNvPicPr/>
          <p:nvPr/>
        </p:nvPicPr>
        <p:blipFill>
          <a:blip r:embed="rId2"/>
          <a:stretch/>
        </p:blipFill>
        <p:spPr>
          <a:xfrm>
            <a:off x="0" y="189000"/>
            <a:ext cx="1628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497800" cy="648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уппа корней, написание которых зависит от ударения.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      В этой группе все намешано-перемешано. Корни мы имеем так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з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-//-з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- </a:t>
            </a:r>
            <a:br>
              <a:rPr sz="1800"/>
            </a:b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-г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-//-г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- </a:t>
            </a:r>
            <a:br>
              <a:rPr sz="1800"/>
            </a:b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-кл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н-//-кл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н- </a:t>
            </a:r>
            <a:br>
              <a:rPr sz="1800"/>
            </a:b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-тв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о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//-тв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а</a:t>
            </a: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р- </a:t>
            </a:r>
            <a:br>
              <a:rPr sz="1800"/>
            </a:b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А дальше начинается засада. Потому что в корне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зор-//-зар-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без ударения пишется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А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в корне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-гор-//-гар-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без ударения пишется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О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а в корнях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клон-//-клан-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-твор//-твар-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под ударением пишется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то, что слышится, </a:t>
            </a: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а без ударения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О. 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делаем проще. Во-первых, надо выучить исключения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ГАРКИ, ИЗГАРЬ, ПРИГАРЬ.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о-вторых, надо запомнить по одному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опорному слову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для корней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ор-//-зар-, -гор-//-гар-.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Запоминаем слова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ОРЬКА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АГАР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Можно их даже связать в ассоциативную цепочку.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АМЫЙ ПОЛЕЗНЫЙ ЗАГАР ПОЛУЧАЕТСЯ НА ЗОРЬКЕ!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ак хочется на море!... Так, не расслабляться. Эти слова помогут нам: ЗАПОМНИВ, ЧТО В ЭТОМ СЛОВЕ ПОД УДАРЕНИЕМ, МЫ МОЖЕМ СМЕЛО В БЕЗУДАРНОЙ ПОЗИЦИИ ОДНОКОРЕННОГО СЛОВА ПОСТАВИТЬ ДРУГУЮ БУКВУ:„З…РЕВОЙ. Корень зор-//-зар-, с чередованием. Вспоминаю ЗОРЬКУ. Под ударением О, значит, пишу в безударной позиции А. Какой я молодец!“ Ну a с корнями -клон-//-клан- и -твор//-твар- обходимся жестко: пишем в безударной позиции только О, чтобы там они в однокоренных словах не имели.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7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Задание 10: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Вставьте недостающие буквы (при помощи учителя или родителей) и самостоятельно выведите правила написания чередующихся гласных в корнях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 – ка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...снуться, к...сание, прик...сновение, к...с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г – лож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...жение, сл...гать, сл...жить, пол...гаться, пол..г, пол...ж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 – га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г...р, заг..релый, заг..рать, сг..реть, сг...р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 – ро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..сти, р...стение, зар...сти, прор...стать, р..ст, подр...сток, пор..сль; но – Р...стов, Р...стиславль, р...стовщик, р...сток, отр...с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ли сло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е и растая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днокоренными? Почему вы так дум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187280" y="189000"/>
            <a:ext cx="638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ни с чередованием гласной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Смотрю на удар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Гар - гор, клан - клон, твар - твор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рень без ударения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рне пишется "О"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апомнить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гарки, утварь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Зор - зар (Зарница, зар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ень без ударения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рне пишется "А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апомнить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орянка, зорев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ogoright"/>
          <p:cNvPicPr/>
          <p:nvPr/>
        </p:nvPicPr>
        <p:blipFill>
          <a:blip r:embed="rId2"/>
          <a:stretch/>
        </p:blipFill>
        <p:spPr>
          <a:xfrm>
            <a:off x="155520" y="4608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9:11:21Z</dcterms:created>
  <dc:creator>Инна</dc:creator>
  <dc:description/>
  <dc:language>en-US</dc:language>
  <cp:lastModifiedBy>BLACKGIRL</cp:lastModifiedBy>
  <dcterms:modified xsi:type="dcterms:W3CDTF">2010-01-29T23:17:44Z</dcterms:modified>
  <cp:revision>3</cp:revision>
  <dc:subject/>
  <dc:title>Слайд 1</dc:title>
</cp:coreProperties>
</file>